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21D-23BD-480E-89CC-7A8C4BF0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738-94DD-4186-91D9-6D4EA6A5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6E8-C4AD-409D-BCFB-ACE0F5CB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5A7-A96D-4C15-B4F7-2CA1C74B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21E-75B2-4D3B-AB95-3DC951AF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2EE-5F26-4C7F-9FA9-17FEBA09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728-CB41-4394-84FB-228664C1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4AD-D7BE-455D-A69D-037DC9F6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2B7-B50B-4A7E-9447-FB692F93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DA8-454C-4ABB-89BB-0B2DCA12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1A7-8185-45F0-BE40-9ED05C7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A96-C14B-4EF3-BBF7-A49C2766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61BE-7EB8-4E99-9EF1-1F9052805D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ROOSEVELT TO WILSON “AGE OF PROGRESSIVISM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523880" y="3657600"/>
            <a:ext cx="601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pirit of Progressiv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44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essivism not a coherent movement but shared some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ample: Concern about effects of industrializ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ormers abandoned individualized reform to address larger structural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jected Social Darwinism and focused on pragmatism (William Jam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gressive reform leaders elected in local/state/federal (Wisconsin Idea-La Follett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ed on the people, politics, and economy (Initiative, referendum, and recal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ed on “purity” within society (ex: prohibi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 of Amendm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560" y="1752480"/>
            <a:ext cx="419076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13: Sixteenth Amendment created income ta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13: Seventeenth Amendment provided for direct election of U.S. sen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20: Eighteenth Amendment prohibits alcohol (crusade against vic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20: Nineteenth Amendment passed (women suffr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DIVI7233490"/>
          <p:cNvPicPr/>
          <p:nvPr/>
        </p:nvPicPr>
        <p:blipFill>
          <a:blip r:embed="rId2"/>
          <a:stretch/>
        </p:blipFill>
        <p:spPr>
          <a:xfrm>
            <a:off x="4495680" y="1828800"/>
            <a:ext cx="435456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publican Teddy Roosev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ten defied convention and brought an exuberance to the presidenc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ust regulator not “trust-buster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Creation of the Food and Drug Act (FD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lieved in his “Square Deal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Hepburn Act-strengthened Interstate Commerce Act (IC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st comprehensive national conservation poli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epublican William Howard Taf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ught a more Conservative feel toward Republicans but was still a progressive Presi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ft lost support of Progress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09 Payne-Aldrich Act – lowered tariffs but not enough according to progressives in his party (divided par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llinger-Pinchot Affair – selling of conservation 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lead to Bull Moose Party/New Nationalism and a resurgence of progressivism (election of 191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IVI7233502"/>
          <p:cNvPicPr/>
          <p:nvPr/>
        </p:nvPicPr>
        <p:blipFill>
          <a:blip r:embed="rId2"/>
          <a:stretch/>
        </p:blipFill>
        <p:spPr>
          <a:xfrm>
            <a:off x="2209680" y="457200"/>
            <a:ext cx="4829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ts Woodrow Wilson'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America's most effective presi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Freedo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13: Underwood Tariff cut du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13: Federal Reserve Act reformed banks, established stable curr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14: Clayton Antitrust Act outlawed directories and unfair trade practices, protected un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14: Federal Trade Commission (oversee business methods and allow for competiti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to adopt more policies from Roosevelt’s New Nationalism which gave stronger control to government  and re-election in 19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ruits of the Progressiv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orm of government at all leve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ligent planning of re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 War I ends Progressive optim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5:30:57Z</dcterms:created>
  <dc:creator>HstM3</dc:creator>
  <dc:description/>
  <cp:keywords/>
  <dc:language>en-US</dc:language>
  <cp:lastModifiedBy>Thaddeus J. Brooks</cp:lastModifiedBy>
  <cp:lastPrinted>2008-10-28T12:28:58Z</cp:lastPrinted>
  <dcterms:modified xsi:type="dcterms:W3CDTF">2013-10-28T14:16:11Z</dcterms:modified>
  <cp:revision>27</cp:revision>
  <dc:subject/>
  <dc:title>FROM ROOSEVELT TO WILSON IN THE AGE OF PROGRESSIVISM</dc:title>
</cp:coreProperties>
</file>